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63D12-4184-46B6-AA5C-A92198FD5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32C33-CB1D-433F-8C70-24A20EB4C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DF73C-4040-413A-9DFE-441A31644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53848-CE31-4444-9EF5-4EFA16E41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C2523-57E3-4A5A-93D4-D36AA28C0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C4B82-D79A-4734-90D9-743DE3904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1195D-EF92-4631-83FE-C1F9F26C8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10F2C-78EB-4C38-B741-7EA501618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D659A-C8E5-4E5A-AFF9-DF3A26159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тегрисане академске студије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едицине</a:t>
            </a: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4 Вештина комуникације </a:t>
            </a: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ештина комуникације са пацијентима у вези са учешћем у клиничком истраживању (студији) /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недељ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ф. др Драган Милованови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армакологија и токсиколог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дицински факултет у Крагујевц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аставне јединиц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нтервју са пацијентом који се укључује у клиничку студиј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нформисани пристанак пациј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муникација са сарадником у лечењ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линичка студија и испита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пита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дивидуална особа која учествује у клиничкој студији, било да прима нови лек који се испитује или  учествује као контр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тупц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грутов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формисани пристан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државање у студиј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ветовање током студ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окументи за етички одб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атеријал који ће се користити за регрутовање пацијен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нформација за пацијента на српском јези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Формулар за пристанак пациј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пис осигурања пациј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егрутовање - истражива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својити стратегије доказане у претходним студиј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би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 сарадњу лекара опште прак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ординир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и мултипле стратег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ришћење евиденције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болесника са стањем од интере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ришћење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пућивања од лек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ришћење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пућивања од лаборатор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ришћење мед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езбедити повратне информације о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апретку регрутације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нформисани пристана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та се испитује у овој студиј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Шта је хипотеза студиј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о ће се користити резулта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 чему се третман у студији разликује од уобичајеног лечењ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ве су процедуре предвиђене код учешћа у студиј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ви су ризици и непријатности од учешћа у студиј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нформисани пристанак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ве су користи по пацијента и друштв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 ли постоји алтернативно лечењ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који начин је обезбеђена приватност података испитани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 ли је предвиђена компензација за учешће у студиј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 ли је учешће у студији добровољн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 којим условима није дозвољено Ваше учешће у студиј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нформисани пристанак (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 којим условима није дозвољено Ваше учешће у студиј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који начин се остварује контакт са истраживачим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нтакт адресе и подац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траживач за главни конта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траживач за резервни конта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Milanče Sin</cp:lastModifiedBy>
  <dcterms:modified xsi:type="dcterms:W3CDTF">2023-02-03T22:55:34Z</dcterms:modified>
  <cp:revision>32</cp:revision>
  <dc:subject/>
  <dc:title>Slide 1</dc:title>
</cp:coreProperties>
</file>